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8637-445D-44FA-8864-B21002DC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969D-09C2-4030-9B6A-7D4B50B4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F0FC-3A5C-4CF7-8F7C-0BE7B8BA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E1F-F029-4B06-BA2D-3384268D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10EF-0CD8-4801-900F-FD87D3D3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126C-35D1-4490-AF1C-3F19852A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8183-0E01-4300-85B4-5A79137B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50B-3F83-4B35-8EA8-C97A7002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709A-EE81-41B2-8224-84863CE4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CB3-E023-42AF-BDF8-0192760F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DAC-A053-483E-9AEB-7A986D8E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36E-A446-4CCD-939E-F5A19D5C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90C1-D05C-4696-A49B-35CDB9592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702 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1 de octubre del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5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repasamos para la Prueba del Repaso 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INDIVIDU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la hija de mi t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el hermano de mi mad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los padres de mis pad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el hijo de mis pad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la hija de mi herm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 verbo TE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9960" y="1244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looking in your notebooks; Conjugate and De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2362320"/>
          <a:ext cx="9067680" cy="3932280"/>
        </p:xfrm>
        <a:graphic>
          <a:graphicData uri="http://schemas.openxmlformats.org/drawingml/2006/table">
            <a:tbl>
              <a:tblPr/>
              <a:tblGrid>
                <a:gridCol w="3022560"/>
                <a:gridCol w="3022560"/>
                <a:gridCol w="3022560"/>
              </a:tblGrid>
              <a:tr h="65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5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5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5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6" name="Text Box 4"/>
          <p:cNvSpPr/>
          <p:nvPr/>
        </p:nvSpPr>
        <p:spPr>
          <a:xfrm>
            <a:off x="3939840" y="3027240"/>
            <a:ext cx="132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Ten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966120" y="3733920"/>
            <a:ext cx="138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2d2d8a"/>
                </a:solidFill>
                <a:latin typeface="Arial"/>
              </a:rPr>
              <a:t>ie</a:t>
            </a: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4017960" y="4398840"/>
            <a:ext cx="117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2d2d8a"/>
                </a:solidFill>
                <a:latin typeface="Arial"/>
              </a:rPr>
              <a:t>ie</a:t>
            </a: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805200" y="5008680"/>
            <a:ext cx="185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Tene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967200" y="5770440"/>
            <a:ext cx="140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2d2d8a"/>
                </a:solidFill>
                <a:latin typeface="Arial"/>
              </a:rPr>
              <a:t>ie</a:t>
            </a: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97920" y="30481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0a0"/>
                </a:solidFill>
                <a:latin typeface="Arial"/>
              </a:rPr>
              <a:t>(I h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251760" y="37288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0a0"/>
                </a:solidFill>
                <a:latin typeface="Arial"/>
              </a:rPr>
              <a:t>(You h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252120" y="4267080"/>
            <a:ext cx="192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030a0"/>
                </a:solidFill>
                <a:latin typeface="Arial"/>
              </a:rPr>
              <a:t>(s/he ha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030a0"/>
                </a:solidFill>
                <a:latin typeface="Arial"/>
              </a:rPr>
              <a:t>you [pol.] ha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550200" y="51004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0a0"/>
                </a:solidFill>
                <a:latin typeface="Arial"/>
              </a:rPr>
              <a:t>(We h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6640" y="5710320"/>
            <a:ext cx="230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030a0"/>
                </a:solidFill>
                <a:latin typeface="Arial"/>
              </a:rPr>
              <a:t>(They hav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030a0"/>
                </a:solidFill>
                <a:latin typeface="Arial"/>
              </a:rPr>
              <a:t>You [pol. pl.] ha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0676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70c0"/>
                </a:solidFill>
                <a:latin typeface="Arial"/>
              </a:rPr>
              <a:t>I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en oraciones comple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s una familia grande o pequeñ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s hermanos ti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s años tienen ell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Y cuántos años tienes t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n ustedes un perro o un ga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6. ¿Tiene tu padre o tu madre un car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. En la escuela, ¿tienes que estudiar muc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8. ¿Y tienen que trabajar mucho tus pad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EL VERBO 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summer project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7:41:09Z</dcterms:created>
  <dc:creator>Helen Zumaeta</dc:creator>
  <dc:description/>
  <dc:language>en-US</dc:language>
  <cp:lastModifiedBy>Helen Zumaeta</cp:lastModifiedBy>
  <dcterms:modified xsi:type="dcterms:W3CDTF">2016-10-21T20:28:23Z</dcterms:modified>
  <cp:revision>17</cp:revision>
  <dc:subject/>
  <dc:title>Slide 1</dc:title>
</cp:coreProperties>
</file>